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6858000" cy="9907588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D69-35C2-4E97-AF00-1B9C4EC8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C06-358C-46AA-BCA5-0A73E201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BCD-F1D0-45AC-8D2A-8D9D897F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491-1829-40EA-AAAA-441FB974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780-E44E-455F-B455-AC1AB15D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9E5-1178-4DFF-84D0-1D0AF765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1B0-4415-4671-831C-9C1B534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8B53-72B3-498D-B5DD-F5A0C85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11A-8C92-46DF-AE59-A9E7B2B1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0DC-C75D-4BCE-9A36-00761BA7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26BB-026B-4CED-8A32-AD442B7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895-45DA-42EF-AFFA-AC4FD707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9A1-ED70-432E-AE6A-6417EAA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5773-5617-4472-B88E-ED90114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6E2-3036-4CEA-8D3A-051EA4F7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683C-0470-473D-939B-5E94D1F8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6BD4-7B94-404B-B8F2-48F90A9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39C3F-5D16-4DAB-BCAF-4C292EDD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20590-04E4-4511-8ACE-824E97E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DABCB-13BB-43E8-BF07-646ACBD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AB5E8-6A42-4DBA-BFF6-80D7B302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42C91-DE2F-490A-AC7F-9C013784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FA7-A417-48AD-BE8B-317B68A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BF1E5-B594-424A-8ABE-C34C3123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88A7B-9A67-4DA1-8114-DCAF311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B1A21-4731-4948-A8ED-9032581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4E587-F472-4987-A167-B9C887D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EC5BE-B266-4DCE-BE6A-CEADF1E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9B611-9565-490D-8064-EB8C0E07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6BB85-B7A1-491D-9AC8-F7E79FF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D062-744A-4FD0-B543-E683DBC3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4106-3D66-43E0-94C0-CF4FEF72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66AE-AC72-464C-8793-3C49EC5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456-718A-4001-9430-E3A43879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B287-AB07-4258-B8A8-4CE07F3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D41F-3140-4016-8CEB-5A4653E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4D78-3D83-4541-9F5C-A43B358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5A89-A58F-4974-B77C-70422F2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6EBA-6DD2-428C-AD33-569D18C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CC79-BE9F-4983-BD5A-5DE3AB3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03A8-E38B-45C1-B39E-0A4DFBA2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F299-6DE8-44F6-96C6-5963F440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09B6A-1EAA-45AD-9B8C-E8E1EA26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C54C0-89B3-4ACF-B948-0A8847D9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F19-CE96-4BD4-98B5-A5B29DF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639A5-B735-47F4-9B23-7E29C57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F3364-71D0-43F5-A8FC-397FB57F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23748-E38F-4B13-92A0-8CC608E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3F652-9E56-4FE9-AFA6-16E0AE1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45A09-0CA1-4CAE-B43C-39A09A3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7CFC8-A95B-4E6E-90E1-9A7FF8E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4D18A-DFD2-458D-BECD-D045D96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87E05-46DD-4757-B9A2-F4E7C54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5C88D-8AC6-4BDE-A57F-DF95A32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17581-7969-49AA-874B-A5AE85FB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421-68A5-4C44-8E81-920BDD94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F1D4B-524A-4E87-8B37-1F499D32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39B6C-8298-45FC-80B1-6BD7BB8F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D0BFF-7E72-4FCA-817B-3387BF9B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7AF19-D97B-4D07-8F1F-FD3ADA77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75DBC-EB63-46D6-8193-AA4F94E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9322B-DDB8-40E0-A123-CD59E3A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84388-D271-4566-85F2-FC58844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4D93C-DE5F-4BDC-B9CF-F60C59A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A01E4-1ED6-4B0E-BBC9-34C0762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8694E-E04A-4B5B-AB03-6FC4878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700-B792-4BFE-BBB8-2C75A7A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100C1-CCD9-48A4-A5A0-D6A1B8D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AA8C7-44EA-4D31-9B63-0869826B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58D35-0A5E-419B-B14C-0766AC29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DC46F-971A-451C-87C6-6FD6286A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CC0DE-2FBF-48A5-828B-34DBAFA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DF4F3-7082-436A-A14D-64607D2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1495E-7BD8-4847-8A68-5414AC8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5B43F-B146-415C-AE36-7B045D6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56005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117DE-0609-43C9-B65D-8BCD6BF0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F21D6-E56D-4AA9-B39A-5DD7EEE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DE4-FBBA-4106-ABBD-62E4B6B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B549D-F21F-4E52-9EB0-E6E186D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84270-3C2B-4E80-A786-79C6512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54936-341B-4304-B315-C5BC695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212640" y="59886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F9D42-026A-44D7-965D-FA5E48BF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2366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130280" y="23112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4272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2366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4130280" y="5988600"/>
            <a:ext cx="180324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3085C-DD3F-4B5A-878D-90153BA4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12640" y="2311200"/>
            <a:ext cx="273276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988600"/>
            <a:ext cx="5600520" cy="33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732-FB99-4DAF-9806-A4C0AF7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6572160" y="0"/>
            <a:ext cx="0" cy="9906120"/>
          </a:xfrm>
          <a:prstGeom prst="line">
            <a:avLst/>
          </a:prstGeom>
          <a:ln w="38160">
            <a:solidFill>
              <a:srgbClr val="bbbaaa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e91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6e91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4994280" y="1695600"/>
            <a:ext cx="2905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e9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e9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4131000" y="5524920"/>
            <a:ext cx="4622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5724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6743880" y="0"/>
            <a:ext cx="0" cy="9906120"/>
          </a:xfrm>
          <a:prstGeom prst="line">
            <a:avLst/>
          </a:prstGeom>
          <a:ln w="1908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629400" y="0"/>
            <a:ext cx="228600" cy="9906120"/>
          </a:xfrm>
          <a:prstGeom prst="rect">
            <a:avLst/>
          </a:prstGeom>
          <a:solidFill>
            <a:srgbClr val="bbb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6686640" y="0"/>
            <a:ext cx="0" cy="9906120"/>
          </a:xfrm>
          <a:prstGeom prst="line">
            <a:avLst/>
          </a:prstGeom>
          <a:ln w="936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6116760" y="8255160"/>
            <a:ext cx="412560" cy="79200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095880" y="8282160"/>
            <a:ext cx="4572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E48D-EBD6-4BB5-B4C5-AE9E66D461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85840" y="0"/>
            <a:ext cx="457200" cy="9906120"/>
          </a:xfrm>
          <a:prstGeom prst="rect">
            <a:avLst/>
          </a:prstGeom>
          <a:solidFill>
            <a:srgbClr val="bbb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08080" y="0"/>
            <a:ext cx="77760" cy="9906120"/>
          </a:xfrm>
          <a:prstGeom prst="rect">
            <a:avLst/>
          </a:prstGeom>
          <a:solidFill>
            <a:srgbClr val="d5d4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743040" y="0"/>
            <a:ext cx="136440" cy="9906120"/>
          </a:xfrm>
          <a:prstGeom prst="rect">
            <a:avLst/>
          </a:prstGeom>
          <a:solidFill>
            <a:srgbClr val="d5d4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855720" y="0"/>
            <a:ext cx="173160" cy="9906120"/>
          </a:xfrm>
          <a:prstGeom prst="rect">
            <a:avLst/>
          </a:prstGeom>
          <a:solidFill>
            <a:srgbClr val="ebeb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79200" y="0"/>
            <a:ext cx="0" cy="9906120"/>
          </a:xfrm>
          <a:prstGeom prst="line">
            <a:avLst/>
          </a:prstGeom>
          <a:ln w="57240">
            <a:solidFill>
              <a:srgbClr val="bbbaaa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685800" y="0"/>
            <a:ext cx="0" cy="9906120"/>
          </a:xfrm>
          <a:prstGeom prst="line">
            <a:avLst/>
          </a:prstGeom>
          <a:ln w="57240">
            <a:solidFill>
              <a:srgbClr val="ebeb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64152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295280" y="0"/>
            <a:ext cx="0" cy="9906120"/>
          </a:xfrm>
          <a:prstGeom prst="line">
            <a:avLst/>
          </a:prstGeom>
          <a:ln w="28440">
            <a:solidFill>
              <a:srgbClr val="bbbaaa">
                <a:alpha val="8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800280" y="0"/>
            <a:ext cx="0" cy="9906120"/>
          </a:xfrm>
          <a:prstGeom prst="line">
            <a:avLst/>
          </a:prstGeom>
          <a:ln w="936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683568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914400" y="0"/>
            <a:ext cx="57240" cy="9906120"/>
          </a:xfrm>
          <a:prstGeom prst="rect">
            <a:avLst/>
          </a:prstGeom>
          <a:solidFill>
            <a:srgbClr val="bbb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457200" y="4952880"/>
            <a:ext cx="971640" cy="187164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982800" y="7029360"/>
            <a:ext cx="480960" cy="927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817560" y="7945560"/>
            <a:ext cx="103320" cy="198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247760" y="8361360"/>
            <a:ext cx="206280" cy="39528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428840" y="6494400"/>
            <a:ext cx="274680" cy="52704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5029200" y="1828800"/>
            <a:ext cx="330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4037760" y="6174000"/>
            <a:ext cx="528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993600" y="7120080"/>
            <a:ext cx="4572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67C-A395-43A0-933D-9423BBAB6A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6572160" y="0"/>
            <a:ext cx="0" cy="9906120"/>
          </a:xfrm>
          <a:prstGeom prst="line">
            <a:avLst/>
          </a:prstGeom>
          <a:ln w="38160">
            <a:solidFill>
              <a:srgbClr val="bbbaaa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5724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6743880" y="0"/>
            <a:ext cx="0" cy="9906120"/>
          </a:xfrm>
          <a:prstGeom prst="line">
            <a:avLst/>
          </a:prstGeom>
          <a:ln w="1908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629400" y="0"/>
            <a:ext cx="228600" cy="9906120"/>
          </a:xfrm>
          <a:prstGeom prst="rect">
            <a:avLst/>
          </a:prstGeom>
          <a:solidFill>
            <a:srgbClr val="bbb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6686640" y="0"/>
            <a:ext cx="0" cy="9906120"/>
          </a:xfrm>
          <a:prstGeom prst="line">
            <a:avLst/>
          </a:prstGeom>
          <a:ln w="936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116760" y="8255160"/>
            <a:ext cx="412560" cy="79200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e91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6e91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4994280" y="1695600"/>
            <a:ext cx="2905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e9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e9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6095880" y="8282160"/>
            <a:ext cx="4572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BE1-D6D2-4237-822F-A3F9BB8996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4131000" y="5524920"/>
            <a:ext cx="4622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9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285840" y="0"/>
            <a:ext cx="457200" cy="9906120"/>
          </a:xfrm>
          <a:prstGeom prst="rect">
            <a:avLst/>
          </a:prstGeom>
          <a:solidFill>
            <a:srgbClr val="bbb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08080" y="0"/>
            <a:ext cx="77760" cy="9906120"/>
          </a:xfrm>
          <a:prstGeom prst="rect">
            <a:avLst/>
          </a:prstGeom>
          <a:solidFill>
            <a:srgbClr val="d5d4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743040" y="0"/>
            <a:ext cx="136440" cy="9906120"/>
          </a:xfrm>
          <a:prstGeom prst="rect">
            <a:avLst/>
          </a:prstGeom>
          <a:solidFill>
            <a:srgbClr val="d5d4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855720" y="0"/>
            <a:ext cx="173160" cy="9906120"/>
          </a:xfrm>
          <a:prstGeom prst="rect">
            <a:avLst/>
          </a:prstGeom>
          <a:solidFill>
            <a:srgbClr val="ebeb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79200" y="0"/>
            <a:ext cx="0" cy="9906120"/>
          </a:xfrm>
          <a:prstGeom prst="line">
            <a:avLst/>
          </a:prstGeom>
          <a:ln w="57240">
            <a:solidFill>
              <a:srgbClr val="bbbaaa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685800" y="0"/>
            <a:ext cx="0" cy="9906120"/>
          </a:xfrm>
          <a:prstGeom prst="line">
            <a:avLst/>
          </a:prstGeom>
          <a:ln w="57240">
            <a:solidFill>
              <a:srgbClr val="ebeb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64152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295280" y="0"/>
            <a:ext cx="0" cy="9906120"/>
          </a:xfrm>
          <a:prstGeom prst="line">
            <a:avLst/>
          </a:prstGeom>
          <a:ln w="28440">
            <a:solidFill>
              <a:srgbClr val="bbbaaa">
                <a:alpha val="8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800280" y="0"/>
            <a:ext cx="0" cy="9906120"/>
          </a:xfrm>
          <a:prstGeom prst="line">
            <a:avLst/>
          </a:prstGeom>
          <a:ln w="936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914400" y="0"/>
            <a:ext cx="57240" cy="9906120"/>
          </a:xfrm>
          <a:prstGeom prst="rect">
            <a:avLst/>
          </a:prstGeom>
          <a:solidFill>
            <a:srgbClr val="bbb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457200" y="4952880"/>
            <a:ext cx="971640" cy="187164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993600" y="7029360"/>
            <a:ext cx="481320" cy="92736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817560" y="7945560"/>
            <a:ext cx="103320" cy="19836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247760" y="8364600"/>
            <a:ext cx="206280" cy="39672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409760" y="6470640"/>
            <a:ext cx="274680" cy="52848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682308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9e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c9e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532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532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32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532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5029200" y="1822320"/>
            <a:ext cx="330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9e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9e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4037760" y="6169320"/>
            <a:ext cx="528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004760" y="7120080"/>
            <a:ext cx="4572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3B59-29B9-49C1-947A-14DFC631E0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6572160" y="0"/>
            <a:ext cx="0" cy="9906120"/>
          </a:xfrm>
          <a:prstGeom prst="line">
            <a:avLst/>
          </a:prstGeom>
          <a:ln w="38160">
            <a:solidFill>
              <a:srgbClr val="bbbaaa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57240" y="0"/>
            <a:ext cx="0" cy="9906120"/>
          </a:xfrm>
          <a:prstGeom prst="line">
            <a:avLst/>
          </a:prstGeom>
          <a:ln w="5724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6743880" y="0"/>
            <a:ext cx="0" cy="9906120"/>
          </a:xfrm>
          <a:prstGeom prst="line">
            <a:avLst/>
          </a:prstGeom>
          <a:ln w="1908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629400" y="0"/>
            <a:ext cx="228600" cy="9906120"/>
          </a:xfrm>
          <a:prstGeom prst="rect">
            <a:avLst/>
          </a:prstGeom>
          <a:solidFill>
            <a:srgbClr val="bbb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6686640" y="0"/>
            <a:ext cx="0" cy="9906120"/>
          </a:xfrm>
          <a:prstGeom prst="line">
            <a:avLst/>
          </a:prstGeom>
          <a:ln w="936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6116760" y="8255160"/>
            <a:ext cx="412560" cy="79200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e91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6e91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4994280" y="1695600"/>
            <a:ext cx="2905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e9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e9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6095880" y="8282160"/>
            <a:ext cx="4572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BF8-9B1D-4D98-8A90-8D7471103D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4131000" y="5524920"/>
            <a:ext cx="4622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6572160" y="0"/>
            <a:ext cx="0" cy="9906120"/>
          </a:xfrm>
          <a:prstGeom prst="line">
            <a:avLst/>
          </a:prstGeom>
          <a:ln w="38160">
            <a:solidFill>
              <a:srgbClr val="bbbaaa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4686480" y="0"/>
            <a:ext cx="0" cy="9906120"/>
          </a:xfrm>
          <a:prstGeom prst="line">
            <a:avLst/>
          </a:prstGeom>
          <a:ln w="3816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4643280" y="0"/>
            <a:ext cx="0" cy="9906120"/>
          </a:xfrm>
          <a:prstGeom prst="line">
            <a:avLst/>
          </a:prstGeom>
          <a:ln w="1260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743880" y="0"/>
            <a:ext cx="0" cy="9906120"/>
          </a:xfrm>
          <a:prstGeom prst="line">
            <a:avLst/>
          </a:prstGeom>
          <a:ln w="1908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6629400" y="0"/>
            <a:ext cx="228600" cy="9906120"/>
          </a:xfrm>
          <a:prstGeom prst="rect">
            <a:avLst/>
          </a:prstGeom>
          <a:solidFill>
            <a:srgbClr val="bbb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6686640" y="0"/>
            <a:ext cx="0" cy="9906120"/>
          </a:xfrm>
          <a:prstGeom prst="line">
            <a:avLst/>
          </a:prstGeom>
          <a:ln w="936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6116760" y="8255160"/>
            <a:ext cx="412560" cy="79200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e91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6e91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4994280" y="1695600"/>
            <a:ext cx="2905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e9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e9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6095880" y="8282160"/>
            <a:ext cx="4572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E81-5A28-47AF-82A9-DE2D60338A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4131000" y="5524920"/>
            <a:ext cx="4622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6572160" y="0"/>
            <a:ext cx="0" cy="9906120"/>
          </a:xfrm>
          <a:prstGeom prst="line">
            <a:avLst/>
          </a:prstGeom>
          <a:ln w="3816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6116760" y="8255160"/>
            <a:ext cx="412560" cy="792000"/>
          </a:xfrm>
          <a:prstGeom prst="ellipse">
            <a:avLst/>
          </a:prstGeom>
          <a:solidFill>
            <a:srgbClr val="71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674388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6629400" y="0"/>
            <a:ext cx="228600" cy="9906120"/>
          </a:xfrm>
          <a:prstGeom prst="rect">
            <a:avLst/>
          </a:prstGeom>
          <a:solidFill>
            <a:srgbClr val="bbb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6686640" y="0"/>
            <a:ext cx="0" cy="9906120"/>
          </a:xfrm>
          <a:prstGeom prst="line">
            <a:avLst/>
          </a:prstGeom>
          <a:ln w="936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4686480" y="0"/>
            <a:ext cx="0" cy="9906120"/>
          </a:xfrm>
          <a:prstGeom prst="line">
            <a:avLst/>
          </a:prstGeom>
          <a:ln w="38160">
            <a:solidFill>
              <a:srgbClr val="bbb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4643280" y="0"/>
            <a:ext cx="0" cy="9906120"/>
          </a:xfrm>
          <a:prstGeom prst="line">
            <a:avLst/>
          </a:prstGeom>
          <a:ln w="12600">
            <a:solidFill>
              <a:srgbClr val="71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56005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e91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6e91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56005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16b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16b00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35d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bb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1eac7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4994280" y="1695600"/>
            <a:ext cx="2905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e9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e9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095880" y="8282160"/>
            <a:ext cx="4572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6102-73BE-47F6-8069-CE0C50850D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4131000" y="5524920"/>
            <a:ext cx="4622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2"/>
          <p:cNvSpPr/>
          <p:nvPr/>
        </p:nvSpPr>
        <p:spPr>
          <a:xfrm>
            <a:off x="990720" y="0"/>
            <a:ext cx="5867280" cy="832356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228600" y="8610480"/>
            <a:ext cx="66294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228600" y="9083520"/>
            <a:ext cx="66294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28600" y="8854920"/>
            <a:ext cx="66294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228600" y="9296280"/>
            <a:ext cx="6629400" cy="136800"/>
          </a:xfrm>
          <a:prstGeom prst="rect">
            <a:avLst/>
          </a:prstGeom>
          <a:solidFill>
            <a:srgbClr val="cd6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685800" y="0"/>
            <a:ext cx="76320" cy="9906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838080" y="0"/>
            <a:ext cx="76320" cy="9906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33520" y="0"/>
            <a:ext cx="75960" cy="9906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80880" y="0"/>
            <a:ext cx="76320" cy="9906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990720" y="0"/>
            <a:ext cx="5867280" cy="840276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17"/>
          <p:cNvGrpSpPr/>
          <p:nvPr/>
        </p:nvGrpSpPr>
        <p:grpSpPr>
          <a:xfrm>
            <a:off x="1090440" y="7338960"/>
            <a:ext cx="5559480" cy="946080"/>
            <a:chOff x="1090440" y="7338960"/>
            <a:chExt cx="5559480" cy="946080"/>
          </a:xfrm>
        </p:grpSpPr>
        <p:pic>
          <p:nvPicPr>
            <p:cNvPr id="362" name="Rectangle 17" descr=""/>
            <p:cNvPicPr/>
            <p:nvPr/>
          </p:nvPicPr>
          <p:blipFill>
            <a:blip r:embed="rId2"/>
            <a:stretch/>
          </p:blipFill>
          <p:spPr>
            <a:xfrm>
              <a:off x="1090440" y="7338960"/>
              <a:ext cx="5559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143000" y="7399440"/>
              <a:ext cx="52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613"/>
                  </a:solidFill>
                  <a:latin typeface="Tahoma"/>
                  <a:ea typeface="Tahoma"/>
                </a:rPr>
                <a:t>PROVINSI SUMATERA BARA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2613"/>
                  </a:solidFill>
                  <a:latin typeface="Tahoma"/>
                  <a:ea typeface="Tahoma"/>
                </a:rPr>
                <a:t>TAHUN 20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2" descr=""/>
          <p:cNvPicPr/>
          <p:nvPr/>
        </p:nvPicPr>
        <p:blipFill>
          <a:blip r:embed="rId3"/>
          <a:stretch/>
        </p:blipFill>
        <p:spPr>
          <a:xfrm>
            <a:off x="1128600" y="7238880"/>
            <a:ext cx="681120" cy="86832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2" descr=""/>
          <p:cNvPicPr/>
          <p:nvPr/>
        </p:nvPicPr>
        <p:blipFill>
          <a:blip r:embed="rId4"/>
          <a:stretch/>
        </p:blipFill>
        <p:spPr>
          <a:xfrm>
            <a:off x="1023840" y="1103400"/>
            <a:ext cx="59436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8:48:19Z</dcterms:created>
  <dc:creator>user</dc:creator>
  <dc:description/>
  <dc:language>en-US</dc:language>
  <cp:lastModifiedBy>LENOVO</cp:lastModifiedBy>
  <cp:lastPrinted>2018-06-25T08:31:46Z</cp:lastPrinted>
  <dcterms:modified xsi:type="dcterms:W3CDTF">2018-06-25T08:35:57Z</dcterms:modified>
  <cp:revision>5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