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38400" y="746280"/>
            <a:ext cx="25812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E3A5-EB35-44C0-9383-48AB7342C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3840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1AD0-7101-465D-90DE-74F4B68A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A87-3195-45EE-A583-5851FE93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26E-DE5F-4E33-97DF-8AC9B335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769-1037-4EDE-B6E6-A80B46FC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772-91B4-42D2-BFC4-DA510207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960-431D-415D-957C-BF26FB5E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007-B1E7-4A78-8EE8-18B607C4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22E-DFB6-41DE-B2A0-AA8B471B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62F-1E9A-4A84-94EC-41751B1E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C00-34CC-433A-B38A-8DAF8D9A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DD6-BE17-4346-A10E-0BFD1E1A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E52-4E79-4E00-96F0-4E16F9E3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D2A-EC5D-432F-BC22-1104A51A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0AF1-AE01-4FA6-834F-82361F69AE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2"/>
          <p:cNvSpPr/>
          <p:nvPr/>
        </p:nvSpPr>
        <p:spPr>
          <a:xfrm>
            <a:off x="0" y="0"/>
            <a:ext cx="6858000" cy="8323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8610480"/>
            <a:ext cx="6858000" cy="15264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0" y="9083520"/>
            <a:ext cx="6858000" cy="13680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0" y="8854920"/>
            <a:ext cx="6858000" cy="13680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0" y="9296280"/>
            <a:ext cx="6858000" cy="15264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248520" y="0"/>
            <a:ext cx="75960" cy="990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400800" y="0"/>
            <a:ext cx="76320" cy="990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33520" y="0"/>
            <a:ext cx="75960" cy="990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80880" y="0"/>
            <a:ext cx="76320" cy="990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extBox 9" descr=""/>
          <p:cNvPicPr/>
          <p:nvPr/>
        </p:nvPicPr>
        <p:blipFill>
          <a:blip r:embed="rId1"/>
          <a:stretch/>
        </p:blipFill>
        <p:spPr>
          <a:xfrm>
            <a:off x="682560" y="2382840"/>
            <a:ext cx="6566040" cy="65484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3"/>
          <p:cNvSpPr/>
          <p:nvPr/>
        </p:nvSpPr>
        <p:spPr>
          <a:xfrm>
            <a:off x="0" y="9540720"/>
            <a:ext cx="6858000" cy="13680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9753480"/>
            <a:ext cx="6858000" cy="15264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logo-sumbar"/>
          <p:cNvPicPr/>
          <p:nvPr/>
        </p:nvPicPr>
        <p:blipFill>
          <a:blip r:embed="rId2"/>
          <a:stretch/>
        </p:blipFill>
        <p:spPr>
          <a:xfrm>
            <a:off x="838080" y="228600"/>
            <a:ext cx="9763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8" descr=""/>
          <p:cNvPicPr/>
          <p:nvPr/>
        </p:nvPicPr>
        <p:blipFill>
          <a:blip r:embed="rId3"/>
          <a:stretch/>
        </p:blipFill>
        <p:spPr>
          <a:xfrm>
            <a:off x="1901880" y="304920"/>
            <a:ext cx="412740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9" descr=""/>
          <p:cNvPicPr/>
          <p:nvPr/>
        </p:nvPicPr>
        <p:blipFill>
          <a:blip r:embed="rId4"/>
          <a:stretch/>
        </p:blipFill>
        <p:spPr>
          <a:xfrm>
            <a:off x="285840" y="792000"/>
            <a:ext cx="3000240" cy="641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kantor gubernur sumbar.jpg"/>
          <p:cNvPicPr/>
          <p:nvPr/>
        </p:nvPicPr>
        <p:blipFill>
          <a:blip r:embed="rId5">
            <a:lum bright="-2000"/>
          </a:blip>
          <a:stretch/>
        </p:blipFill>
        <p:spPr>
          <a:xfrm>
            <a:off x="2362320" y="1447920"/>
            <a:ext cx="3657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8:48:19Z</dcterms:created>
  <dc:creator>user</dc:creator>
  <dc:description/>
  <dc:language>en-US</dc:language>
  <cp:lastModifiedBy>ACER</cp:lastModifiedBy>
  <dcterms:modified xsi:type="dcterms:W3CDTF">2017-08-30T06:03:02Z</dcterms:modified>
  <cp:revision>65</cp:revision>
  <dc:subject/>
  <dc:title>Slide 1</dc:title>
</cp:coreProperties>
</file>